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44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6.jpeg" ContentType="image/jpeg"/>
  <Override PartName="/ppt/media/image38.jpeg" ContentType="image/jpeg"/>
  <Override PartName="/ppt/media/image35.gif" ContentType="image/gif"/>
  <Override PartName="/ppt/media/image31.gif" ContentType="image/gif"/>
  <Override PartName="/ppt/media/image11.jpeg" ContentType="image/jpeg"/>
  <Override PartName="/ppt/media/image9.jpeg" ContentType="image/jpeg"/>
  <Override PartName="/ppt/media/image22.jpeg" ContentType="image/jpeg"/>
  <Override PartName="/ppt/media/image39.png" ContentType="image/png"/>
  <Override PartName="/ppt/media/image43.jpeg" ContentType="image/jpeg"/>
  <Override PartName="/ppt/media/image7.png" ContentType="image/png"/>
  <Override PartName="/ppt/media/image37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4.png" ContentType="image/png"/>
  <Override PartName="/ppt/media/image4.png" ContentType="image/png"/>
  <Override PartName="/ppt/media/image25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5A2C-496A-4A7E-9DC8-0454582D4A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FF20-7AD4-4F84-A4E3-26D7EBBEC7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B70-C749-4287-AEB4-B0E43113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749-9521-459A-8DC9-0F882CA3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FD7-FA97-4CEC-BEBD-22A58F4C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0AF-3221-41E2-8AF3-7315E768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CD4-3B11-47B6-94FE-58EBD4E4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7CD-ECC6-4009-8A1A-3ECC7EDA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33D-CDFE-4A71-843B-966007E8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784-240B-42C1-8208-7113AF6C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308-21ED-4A90-A940-683B20BF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99D-B994-452B-9B78-7BBF4012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56C-2D2D-41BB-934A-291AC0B8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073-81C1-4733-B366-5BDAE66E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D214-40AE-4FC5-A115-2C805D06F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33884542.jpg"/>
          <p:cNvPicPr/>
          <p:nvPr/>
        </p:nvPicPr>
        <p:blipFill>
          <a:blip r:embed="rId1"/>
          <a:stretch/>
        </p:blipFill>
        <p:spPr>
          <a:xfrm>
            <a:off x="5054760" y="2489040"/>
            <a:ext cx="4089240" cy="4368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18e4fc7e0.gif"/>
          <p:cNvPicPr/>
          <p:nvPr/>
        </p:nvPicPr>
        <p:blipFill>
          <a:blip r:embed="rId2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21014400">
            <a:off x="348120" y="2422440"/>
            <a:ext cx="678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В таинственном мире баллад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778480" y="-720"/>
            <a:ext cx="358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ашник Вера Николаевна  231-928-914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ичева Наталия Анатольевна  232-950-64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8ee5cdbf443ab9ce48a396746cb8676a_0_400_0.jpg"/>
          <p:cNvPicPr/>
          <p:nvPr/>
        </p:nvPicPr>
        <p:blipFill>
          <a:blip r:embed="rId2"/>
          <a:stretch/>
        </p:blipFill>
        <p:spPr>
          <a:xfrm rot="20358000">
            <a:off x="812520" y="1521000"/>
            <a:ext cx="3767040" cy="44780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ff2f892a50df.jpg"/>
          <p:cNvPicPr/>
          <p:nvPr/>
        </p:nvPicPr>
        <p:blipFill>
          <a:blip r:embed="rId3"/>
          <a:stretch/>
        </p:blipFill>
        <p:spPr>
          <a:xfrm rot="1372200">
            <a:off x="5032080" y="1944720"/>
            <a:ext cx="3384360" cy="4430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24.jpg"/>
          <p:cNvPicPr/>
          <p:nvPr/>
        </p:nvPicPr>
        <p:blipFill>
          <a:blip r:embed="rId1"/>
          <a:stretch/>
        </p:blipFill>
        <p:spPr>
          <a:xfrm>
            <a:off x="0" y="1449360"/>
            <a:ext cx="9144000" cy="5408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18e4fc7e0.gif"/>
          <p:cNvPicPr/>
          <p:nvPr/>
        </p:nvPicPr>
        <p:blipFill>
          <a:blip r:embed="rId2"/>
          <a:stretch/>
        </p:blipFill>
        <p:spPr>
          <a:xfrm>
            <a:off x="857160" y="357120"/>
            <a:ext cx="7277040" cy="128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купер сам"/>
          <p:cNvPicPr/>
          <p:nvPr/>
        </p:nvPicPr>
        <p:blipFill>
          <a:blip r:embed="rId3"/>
          <a:stretch/>
        </p:blipFill>
        <p:spPr>
          <a:xfrm>
            <a:off x="6211800" y="3279600"/>
            <a:ext cx="3224160" cy="3902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0" y="1785960"/>
            <a:ext cx="47149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Роберт  Льюис  Стивенсон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«Вересковый  мед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вереск.wmv" descr=""/>
          <p:cNvPicPr/>
          <p:nvPr/>
        </p:nvPicPr>
        <p:blipFill>
          <a:blip r:embed="rId1"/>
          <a:srcRect l="5209" t="1386" r="5209" b="0"/>
          <a:stretch/>
        </p:blipFill>
        <p:spPr>
          <a:xfrm>
            <a:off x="468360" y="76320"/>
            <a:ext cx="8215200" cy="6781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18e4fc7e0.gif"/>
          <p:cNvPicPr/>
          <p:nvPr/>
        </p:nvPicPr>
        <p:blipFill>
          <a:blip r:embed="rId2"/>
          <a:stretch/>
        </p:blipFill>
        <p:spPr>
          <a:xfrm>
            <a:off x="1143000" y="142920"/>
            <a:ext cx="727704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5060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burgundska.jpg"/>
          <p:cNvPicPr/>
          <p:nvPr/>
        </p:nvPicPr>
        <p:blipFill>
          <a:blip r:embed="rId2"/>
          <a:stretch/>
        </p:blipFill>
        <p:spPr>
          <a:xfrm>
            <a:off x="3500280" y="1571760"/>
            <a:ext cx="401976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142920" y="600084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Франция  и  ее  баллад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16.jpg"/>
          <p:cNvPicPr/>
          <p:nvPr/>
        </p:nvPicPr>
        <p:blipFill>
          <a:blip r:embed="rId2"/>
          <a:stretch/>
        </p:blipFill>
        <p:spPr>
          <a:xfrm>
            <a:off x="6000840" y="1843200"/>
            <a:ext cx="3143160" cy="5014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214200" y="207180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ранцию  тоже  считают  родиной  бал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1143000" y="2928960"/>
            <a:ext cx="4929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В  старинные  времена  во  Франции  немало было  сложено  поэтических  сказаний  о  смелых рыцарях,  прекрасных  принцессах,  влюбленных менестрелях,  злобных  драконах  и  коварных короля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285840" y="5072040"/>
            <a:ext cx="55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амо  слово  «баллада»  тоже  родом  из Франции,  в  переводе  означает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«танцевальная пес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" descr="0.jpg"/>
          <p:cNvPicPr/>
          <p:nvPr/>
        </p:nvPicPr>
        <p:blipFill>
          <a:blip r:embed="rId1"/>
          <a:stretch/>
        </p:blipFill>
        <p:spPr>
          <a:xfrm>
            <a:off x="0" y="2306520"/>
            <a:ext cx="2143080" cy="4551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cremona.jpg"/>
          <p:cNvPicPr/>
          <p:nvPr/>
        </p:nvPicPr>
        <p:blipFill>
          <a:blip r:embed="rId2"/>
          <a:stretch/>
        </p:blipFill>
        <p:spPr>
          <a:xfrm>
            <a:off x="6215040" y="2071800"/>
            <a:ext cx="2738520" cy="3990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25_%20Speed,%20Lancelot%20-%20The%20Wedding%20Of%20Arthur%20And%20Guinevere.jpg"/>
          <p:cNvPicPr/>
          <p:nvPr/>
        </p:nvPicPr>
        <p:blipFill>
          <a:blip r:embed="rId3"/>
          <a:stretch/>
        </p:blipFill>
        <p:spPr>
          <a:xfrm>
            <a:off x="2714760" y="1000080"/>
            <a:ext cx="3306600" cy="4500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18e4fc7e0.gif"/>
          <p:cNvPicPr/>
          <p:nvPr/>
        </p:nvPicPr>
        <p:blipFill>
          <a:blip r:embed="rId4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2214720" y="5715000"/>
            <a:ext cx="514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«Менестрель»                            («Молчите,  проклятые  струны…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005.jpg"/>
          <p:cNvPicPr/>
          <p:nvPr/>
        </p:nvPicPr>
        <p:blipFill>
          <a:blip r:embed="rId2"/>
          <a:stretch/>
        </p:blipFill>
        <p:spPr>
          <a:xfrm>
            <a:off x="2857680" y="3000240"/>
            <a:ext cx="5175000" cy="38577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0" y="200016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Германия  и  ее  баллад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13283.jpg"/>
          <p:cNvPicPr/>
          <p:nvPr/>
        </p:nvPicPr>
        <p:blipFill>
          <a:blip r:embed="rId2"/>
          <a:stretch/>
        </p:blipFill>
        <p:spPr>
          <a:xfrm>
            <a:off x="0" y="2857680"/>
            <a:ext cx="3071880" cy="4089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1714680" y="1571760"/>
            <a:ext cx="54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о  времена  романтизма  излюбленным жанром  поэтов - романтиков  становится баллад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143160" y="3143160"/>
            <a:ext cx="5643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Содержание  немецкой  баллады  носит  мрачный  и фантастический  характер;   действие  развивается эпизодично,   восполнение  недостающих  частей                  в  сюжете  предоставляется   фантазии  слушателе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4429080" y="492912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На  страницах  немецких  баллад царствовала  мистика  и  феерическая фантазия,  мир  живых   людей пересекался  с  миром   мертвых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die-schoensten-gedichte-und-balladen-bprod59746911.jpg"/>
          <p:cNvPicPr/>
          <p:nvPr/>
        </p:nvPicPr>
        <p:blipFill>
          <a:blip r:embed="rId2"/>
          <a:stretch/>
        </p:blipFill>
        <p:spPr>
          <a:xfrm>
            <a:off x="142920" y="1214280"/>
            <a:ext cx="2476440" cy="41436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schiller_autograph.jpg"/>
          <p:cNvPicPr/>
          <p:nvPr/>
        </p:nvPicPr>
        <p:blipFill>
          <a:blip r:embed="rId3"/>
          <a:stretch/>
        </p:blipFill>
        <p:spPr>
          <a:xfrm>
            <a:off x="1000080" y="5357880"/>
            <a:ext cx="311796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2786040" y="2428920"/>
            <a:ext cx="6357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наменитый  немецкий  поэт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VI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вец  высоких  идеалов  человечества,    любви  к  истине  и  своб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втор  многочисленных   баллад,  ставших известными  в  России  благодаря  переводам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Жуков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" descr="море.jpg"/>
          <p:cNvPicPr/>
          <p:nvPr/>
        </p:nvPicPr>
        <p:blipFill>
          <a:blip r:embed="rId2"/>
          <a:stretch/>
        </p:blipFill>
        <p:spPr>
          <a:xfrm>
            <a:off x="1954080" y="1905120"/>
            <a:ext cx="7189920" cy="4952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0_58394_cb98fc2c_XL.gif"/>
          <p:cNvPicPr/>
          <p:nvPr/>
        </p:nvPicPr>
        <p:blipFill>
          <a:blip r:embed="rId3"/>
          <a:stretch/>
        </p:blipFill>
        <p:spPr>
          <a:xfrm rot="18330000">
            <a:off x="1633320" y="5500080"/>
            <a:ext cx="838440" cy="12859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428760" y="121428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«Куб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234791_original.jpg"/>
          <p:cNvPicPr/>
          <p:nvPr/>
        </p:nvPicPr>
        <p:blipFill>
          <a:blip r:embed="rId2"/>
          <a:stretch/>
        </p:blipFill>
        <p:spPr>
          <a:xfrm>
            <a:off x="0" y="2000160"/>
            <a:ext cx="3537000" cy="4857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3429000" y="2286000"/>
            <a:ext cx="535788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Баллада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лироэпическое произведение, поэтический рассказ исторического, мифического, героического, мистического или волшеб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Изначально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жанр фолькл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Время возникновения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редние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Страны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– Шотландия, Англия,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 Франция, Германия, Росс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6.jpg"/>
          <p:cNvPicPr/>
          <p:nvPr/>
        </p:nvPicPr>
        <p:blipFill>
          <a:blip r:embed="rId2"/>
          <a:stretch/>
        </p:blipFill>
        <p:spPr>
          <a:xfrm>
            <a:off x="0" y="1571760"/>
            <a:ext cx="5072040" cy="38034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7" descr="bestgif.narod.ru_2171[1].gif"/>
          <p:cNvPicPr/>
          <p:nvPr/>
        </p:nvPicPr>
        <p:blipFill>
          <a:blip r:embed="rId3"/>
          <a:stretch/>
        </p:blipFill>
        <p:spPr>
          <a:xfrm>
            <a:off x="5786280" y="4784760"/>
            <a:ext cx="3035520" cy="2073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8"/>
          <p:cNvSpPr/>
          <p:nvPr/>
        </p:nvSpPr>
        <p:spPr>
          <a:xfrm>
            <a:off x="3500280" y="585792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«Перчат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гёте"/>
          <p:cNvPicPr/>
          <p:nvPr/>
        </p:nvPicPr>
        <p:blipFill>
          <a:blip r:embed="rId2"/>
          <a:stretch/>
        </p:blipFill>
        <p:spPr>
          <a:xfrm>
            <a:off x="6540480" y="1066680"/>
            <a:ext cx="2610000" cy="32306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erlkoenig.jpg"/>
          <p:cNvPicPr/>
          <p:nvPr/>
        </p:nvPicPr>
        <p:blipFill>
          <a:blip r:embed="rId3"/>
          <a:stretch/>
        </p:blipFill>
        <p:spPr>
          <a:xfrm>
            <a:off x="2643120" y="3817800"/>
            <a:ext cx="4714920" cy="3040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schubert-01_56904301.jpg"/>
          <p:cNvPicPr/>
          <p:nvPr/>
        </p:nvPicPr>
        <p:blipFill>
          <a:blip r:embed="rId4"/>
          <a:stretch/>
        </p:blipFill>
        <p:spPr>
          <a:xfrm>
            <a:off x="281160" y="1706400"/>
            <a:ext cx="3284280" cy="4194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 rot="1003800">
            <a:off x="3654360" y="2700360"/>
            <a:ext cx="35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Иоганн  Вольфганг  Г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 rot="20295000">
            <a:off x="353160" y="570168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ранц   Шуб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9" descr="bestgif.narod.ru_723[1].gif"/>
          <p:cNvPicPr/>
          <p:nvPr/>
        </p:nvPicPr>
        <p:blipFill>
          <a:blip r:embed="rId5"/>
          <a:stretch/>
        </p:blipFill>
        <p:spPr>
          <a:xfrm>
            <a:off x="3143160" y="3643200"/>
            <a:ext cx="447696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erlkc3b6n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Шуберт. Лесной Царь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5851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" descr="4240243_3c20241c.jpg"/>
          <p:cNvPicPr/>
          <p:nvPr/>
        </p:nvPicPr>
        <p:blipFill>
          <a:blip r:embed="rId2"/>
          <a:stretch/>
        </p:blipFill>
        <p:spPr>
          <a:xfrm>
            <a:off x="-146160" y="2494080"/>
            <a:ext cx="5619960" cy="4510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3357720" y="1714680"/>
            <a:ext cx="542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Россия  и  ее  баллад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" descr="0a0k6ug42e.jpg"/>
          <p:cNvPicPr/>
          <p:nvPr/>
        </p:nvPicPr>
        <p:blipFill>
          <a:blip r:embed="rId2"/>
          <a:stretch/>
        </p:blipFill>
        <p:spPr>
          <a:xfrm>
            <a:off x="5821200" y="2428920"/>
            <a:ext cx="3322800" cy="44290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214200" y="1857240"/>
            <a:ext cx="52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ервые  фольклорные  баллады использовали  сюжеты  и  образы  времен татаро-монгольского  ига  и  пленения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русских   людей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285840" y="4071960"/>
            <a:ext cx="59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ервые  литературные  баллады  были переводными.   Их  переводили  русские поэты-романтики  с  немецкого, польского,  английского  язык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жуковский"/>
          <p:cNvPicPr/>
          <p:nvPr/>
        </p:nvPicPr>
        <p:blipFill>
          <a:blip r:embed="rId2"/>
          <a:stretch/>
        </p:blipFill>
        <p:spPr>
          <a:xfrm>
            <a:off x="-6480" y="1133640"/>
            <a:ext cx="3713400" cy="3803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3643200" y="2825640"/>
            <a:ext cx="55008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асилий   Андреевич   Жуковский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ыл  первым  русским  поэтом   романтиком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н  первым  обратился  в  своем  творчестве к  жанру   баллады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го   первые  баллады  были художественными  переводами  из  Гете, Шиллера,  Саути,  Уланд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о  последующие   баллады  были  полностью самостоятельны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21420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1209126.jpg"/>
          <p:cNvPicPr/>
          <p:nvPr/>
        </p:nvPicPr>
        <p:blipFill>
          <a:blip r:embed="rId2"/>
          <a:stretch/>
        </p:blipFill>
        <p:spPr>
          <a:xfrm>
            <a:off x="0" y="3029040"/>
            <a:ext cx="5580000" cy="3828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2" descr="gadanie2-300x186.jpg"/>
          <p:cNvPicPr/>
          <p:nvPr/>
        </p:nvPicPr>
        <p:blipFill>
          <a:blip r:embed="rId3"/>
          <a:stretch/>
        </p:blipFill>
        <p:spPr>
          <a:xfrm>
            <a:off x="4572000" y="1428840"/>
            <a:ext cx="4572000" cy="3643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428760" y="16430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Раз  в  крещенский  вече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Девушки  гада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215040" y="564372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«Светла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5" descr="18e4fc7e0.gif"/>
          <p:cNvPicPr/>
          <p:nvPr/>
        </p:nvPicPr>
        <p:blipFill>
          <a:blip r:embed="rId1"/>
          <a:stretch/>
        </p:blipFill>
        <p:spPr>
          <a:xfrm>
            <a:off x="928800" y="214200"/>
            <a:ext cx="7277040" cy="12002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2357280" y="1285920"/>
            <a:ext cx="66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В  середине  и  во  второй  половине  19  века активно  развивается  героическая  баллада: героические  страницы  прошлого  Руси,  князья и  богатыри ,  война  с   Наполеоном  1812  года, подвиги  простых  русских  люде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0_7122e_aa53d510_XL.jpg"/>
          <p:cNvPicPr/>
          <p:nvPr/>
        </p:nvPicPr>
        <p:blipFill>
          <a:blip r:embed="rId2"/>
          <a:stretch/>
        </p:blipFill>
        <p:spPr>
          <a:xfrm>
            <a:off x="0" y="3525840"/>
            <a:ext cx="5000760" cy="33321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 rot="785400">
            <a:off x="5119920" y="436104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 rot="21006000">
            <a:off x="6678000" y="480708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Лермо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 rot="996600">
            <a:off x="5247000" y="590544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А.К.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 rot="21173400">
            <a:off x="6318000" y="3638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Рыл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2" descr="0_6c277_aac8000e_XL.jpg"/>
          <p:cNvPicPr/>
          <p:nvPr/>
        </p:nvPicPr>
        <p:blipFill>
          <a:blip r:embed="rId1"/>
          <a:stretch/>
        </p:blipFill>
        <p:spPr>
          <a:xfrm>
            <a:off x="0" y="2928960"/>
            <a:ext cx="4365720" cy="3929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330920_1.jpg"/>
          <p:cNvPicPr/>
          <p:nvPr/>
        </p:nvPicPr>
        <p:blipFill>
          <a:blip r:embed="rId2"/>
          <a:stretch/>
        </p:blipFill>
        <p:spPr>
          <a:xfrm>
            <a:off x="5380200" y="428760"/>
            <a:ext cx="3763800" cy="55004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18e4fc7e0.gif"/>
          <p:cNvPicPr/>
          <p:nvPr/>
        </p:nvPicPr>
        <p:blipFill>
          <a:blip r:embed="rId3"/>
          <a:stretch/>
        </p:blipFill>
        <p:spPr>
          <a:xfrm>
            <a:off x="785880" y="0"/>
            <a:ext cx="7277040" cy="12002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0" y="1071720"/>
            <a:ext cx="5429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А.К.Толстой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называл  свои  баллады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былинами.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На  страницах  его  былин  оживали богатыри  и  древнерусские  витяз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5429160" y="60721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«Гарольд  Смелы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"/>
          <p:cNvPicPr/>
          <p:nvPr/>
        </p:nvPicPr>
        <p:blipFill>
          <a:blip r:embed="rId1"/>
          <a:stretch/>
        </p:blipFill>
        <p:spPr>
          <a:xfrm>
            <a:off x="2567160" y="781200"/>
            <a:ext cx="3966840" cy="5192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18e4fc7e0.gif"/>
          <p:cNvPicPr/>
          <p:nvPr/>
        </p:nvPicPr>
        <p:blipFill>
          <a:blip r:embed="rId2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0" y="5929200"/>
            <a:ext cx="621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Шотландия  и  ее  баллад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8827747.jpg"/>
          <p:cNvPicPr/>
          <p:nvPr/>
        </p:nvPicPr>
        <p:blipFill>
          <a:blip r:embed="rId2"/>
          <a:stretch/>
        </p:blipFill>
        <p:spPr>
          <a:xfrm>
            <a:off x="3929040" y="2886120"/>
            <a:ext cx="5214960" cy="3971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428760" y="1500120"/>
            <a:ext cx="5643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Шотландские  баллады 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были  мрачны  и  таинственны. Сама  природа  внушала  шотландским  бардам настроения,  сказывавшееся  в  изображении  кровавых битв  и  ужасных  бур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143000" y="30002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На  мрачном  фоне  исторических событий создавались   поэтические   рассказы о страстной любви, жестокой мести, верной дружбе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142920" y="4572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Отважные  шотландцы  похищали возлюбленных,  тонули  в  бурных  водах Клайда,  бесстрашно  бились  с  враг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grzo"/>
          <p:cNvPicPr/>
          <p:nvPr/>
        </p:nvPicPr>
        <p:blipFill>
          <a:blip r:embed="rId1"/>
          <a:stretch/>
        </p:blipFill>
        <p:spPr>
          <a:xfrm>
            <a:off x="2738520" y="2054160"/>
            <a:ext cx="6405480" cy="4803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18e4fc7e0.gif"/>
          <p:cNvPicPr/>
          <p:nvPr/>
        </p:nvPicPr>
        <p:blipFill>
          <a:blip r:embed="rId2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14200" y="1571760"/>
            <a:ext cx="64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«Прекрасная  Маргарет  и  милый  Вилья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04-the_banks_of_the_lee.mp3" descr=""/>
          <p:cNvPicPr/>
          <p:nvPr/>
        </p:nvPicPr>
        <p:blipFill>
          <a:blip r:embed="rId3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0009112296_fid.jpg"/>
          <p:cNvPicPr/>
          <p:nvPr/>
        </p:nvPicPr>
        <p:blipFill>
          <a:blip r:embed="rId2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6824c566f528.jpg"/>
          <p:cNvPicPr/>
          <p:nvPr/>
        </p:nvPicPr>
        <p:blipFill>
          <a:blip r:embed="rId3"/>
          <a:stretch/>
        </p:blipFill>
        <p:spPr>
          <a:xfrm>
            <a:off x="4572000" y="1571760"/>
            <a:ext cx="4572000" cy="39081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642960" y="1785960"/>
            <a:ext cx="328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альтер  Скотт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«Беверл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292634120_tonnel.gif"/>
          <p:cNvPicPr/>
          <p:nvPr/>
        </p:nvPicPr>
        <p:blipFill>
          <a:blip r:embed="rId2"/>
          <a:stretch/>
        </p:blipFill>
        <p:spPr>
          <a:xfrm>
            <a:off x="5065560" y="1706400"/>
            <a:ext cx="3584880" cy="4780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214200" y="2643120"/>
            <a:ext cx="52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оберт  Бернс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 шотландец, поэт,  автор  песен,  поэм,  легенд  и  балл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лагодаря  Роберту  Бернсу  в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VIII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веке баллада  стала  литературным  жанр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9" descr="pic_heritage2.jpg"/>
          <p:cNvPicPr/>
          <p:nvPr/>
        </p:nvPicPr>
        <p:blipFill>
          <a:blip r:embed="rId3"/>
          <a:stretch/>
        </p:blipFill>
        <p:spPr>
          <a:xfrm>
            <a:off x="0" y="4282920"/>
            <a:ext cx="3273480" cy="2575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ZamkiBig6.jpg"/>
          <p:cNvPicPr/>
          <p:nvPr/>
        </p:nvPicPr>
        <p:blipFill>
          <a:blip r:embed="rId2"/>
          <a:stretch/>
        </p:blipFill>
        <p:spPr>
          <a:xfrm>
            <a:off x="1852560" y="920880"/>
            <a:ext cx="518148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0" y="600084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Англия  и  ее  баллад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18e4fc7e0.gif"/>
          <p:cNvPicPr/>
          <p:nvPr/>
        </p:nvPicPr>
        <p:blipFill>
          <a:blip r:embed="rId1"/>
          <a:stretch/>
        </p:blipFill>
        <p:spPr>
          <a:xfrm>
            <a:off x="857160" y="357120"/>
            <a:ext cx="7277040" cy="1200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9.jpg"/>
          <p:cNvPicPr/>
          <p:nvPr/>
        </p:nvPicPr>
        <p:blipFill>
          <a:blip r:embed="rId2"/>
          <a:stretch/>
        </p:blipFill>
        <p:spPr>
          <a:xfrm>
            <a:off x="5726160" y="1714680"/>
            <a:ext cx="3417840" cy="5143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0" y="1571760"/>
            <a:ext cx="5357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В  Англии  баллада  была  известна издавна.  Считается,  что  баллада была  принесена  в  Англию  еще норманнскими  завоевател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500040" y="3929040"/>
            <a:ext cx="5357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За  высокими  стенами  и стрельчатыми окнами  старинных  замков  влюблялись, дрались  на  мечах  и  кинжалах,  назначали  тайные  свидания,  подсыпали  яд  в  бокалы  с  вином  и  умирали  с  именем  прекрасной белокурой  леди  на  устах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7:55:49Z</dcterms:created>
  <dc:creator>Alex</dc:creator>
  <dc:description/>
  <dc:language>en-US</dc:language>
  <cp:lastModifiedBy>Adel</cp:lastModifiedBy>
  <dcterms:modified xsi:type="dcterms:W3CDTF">2012-06-08T22:15:39Z</dcterms:modified>
  <cp:revision>70</cp:revision>
  <dc:subject/>
  <dc:title>Слайд 1</dc:title>
</cp:coreProperties>
</file>